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C689E-27AD-4D51-A6BF-8F1D1626B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C81A0-D114-44A5-B12B-6784F97B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C48B7-8FE1-4830-824B-5D540BB03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7F9F5-BB30-45AF-B5A9-AD5C5DCE4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CA630-1B34-4A9A-AAB0-6BF2682C7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86DFB-7F67-456F-9C2D-E3AECF857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4D987-9465-468C-BBE0-19D22D365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64827-C2D4-4644-A083-393632ACE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4DF84-564B-43E0-9F83-DEE8F56B5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F8C1E-00DC-4C98-A727-EA82AC019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45D69-0A4C-4DC4-B02C-598CE93EE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A1B9A-8B34-4477-B723-739CBC254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BAB43-7A67-475B-980C-1EFBDE4A3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4AF35-12CB-4213-B040-814AA462A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2719C-12A3-4140-A819-17220B86A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C4C2F-5412-4656-9724-03E5F1A6C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C8F74-FE77-43C6-85B6-46D27ED20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F377B5-6709-4B83-8C12-ABED2B20F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5338FB-C93E-4CA1-BD12-443C3C1B8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B29C0-D021-4A53-854F-B75AC293C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DD556-25B3-4B24-89A6-379EF657D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36064-78C2-4A57-B62D-8FFDC286A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37BB-61FD-4CD1-A19C-F06225C9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ABEFC-D727-44C1-9CD5-B4251E585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DD835-0BA0-4BC1-A87D-54283C348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A78B1-0EFA-42D5-885E-856FC4639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0042B-B8E5-466A-AE8D-1055813A1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83795-7ED5-48C0-93E8-22253AF29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057656-3833-458D-A0B7-5A3D874A8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F415A6-2D15-43B7-917D-8927687BB1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AE1374-535A-4E04-87BE-7AC39F2EC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FD3DF-2639-4DB5-B2C8-095BD349C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70F8B-21C2-4900-808D-1E46D5848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EA0E-E80E-461F-A52D-BEBBC3E7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A5F48-29EF-4382-B01A-0B2966198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DE00D-A24B-46F8-96DE-3AFEA3ABA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6E986-BE25-4DC0-B806-5663F2921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2FAFC-76DD-4A4C-BF64-83B78E03F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C8AEC-9555-4A55-A999-AD2299E8C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8C700-9416-4059-AC3B-CD7AEB4D8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52B2F-3C7B-4C2E-A207-E4FB00C8B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3FC9A6-8E0D-4FF0-954D-6E4BADA05A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2903A-38F5-48A3-81D7-FAB7923B64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F5F9A-5437-4899-9A6D-6F95F6C82A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6E64E-9F42-4B5C-B382-A0F67024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E42ED-F654-425D-B5C6-3D3E75EDF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5B28A-B57B-4F83-8841-68482B0FB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CB0BA-B3CA-4353-A418-D286504B8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A3F1E-9EF7-42A0-96DC-308B569194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D7397-443A-4410-9D25-AF10891DA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CA8AE-BA18-45F3-865D-9BC5DED60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4BA590-A764-46F5-BF48-1A7AA5DB2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E1566-3C54-4DD2-920B-2D0C9B6E3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0EAAE-5A77-4A3A-96FC-2D9BF6B5C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A6E3A-69DE-4C8E-98B4-B1C5152FC6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CB0BC-8AB2-450D-AC35-AE4665313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5DAFA-1DA3-42AA-8C7C-0B21A290D6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C9D8C7-D8C1-4163-85F1-716ED161D0B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675A498-C5FB-4A3F-B083-C661A512D2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909DD1-B6F1-468A-82B1-3402AFA7360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8CFD6C-D0A2-430D-9196-60F0AEFB9E1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80E65F-17F8-4093-A4E7-B13DDA397D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D38EF50-8834-4EC4-B92A-5B49C64ECE6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FF55E2C-59FD-44A7-9BF8-663A53AAA72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DA3001-9356-4636-82E4-F243CBADB1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75E7281-1DBC-419B-B0C9-A7C89FAB4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BC67-B002-41C3-B4AA-9789F4EC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566ACC1-422C-4DC6-9AEF-173F42D67DD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A6E4B6B-C7DE-47AE-BD6C-97C61546BE0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A7EE0F2-1EDA-453D-98D1-A4BB54C05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AD5E-D6CE-4103-97EC-A67A0828A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027C-D3B8-409D-A8A6-01D5369E5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DB6C6FDA-485D-41F0-85CA-B562299CBE6E}"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B2F47101-E8A7-4C66-B09E-46F45F07FE13}"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952C4241-3173-47F5-90C7-967F21EC8688}"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C89764F1-C145-42A6-95CB-A499D1CBB713}"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25E64D2B-55FD-4BBB-A189-34C972E61447}"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4ACA3F02-D45F-4F29-BD4D-1DA6C664BDB4}"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67" descr=""/>
          <p:cNvPicPr/>
          <p:nvPr/>
        </p:nvPicPr>
        <p:blipFill>
          <a:blip r:embed="rId1"/>
          <a:stretch/>
        </p:blipFill>
        <p:spPr>
          <a:xfrm>
            <a:off x="212760" y="268200"/>
            <a:ext cx="8480520" cy="884160"/>
          </a:xfrm>
          <a:prstGeom prst="rect">
            <a:avLst/>
          </a:prstGeom>
          <a:ln w="0">
            <a:noFill/>
          </a:ln>
        </p:spPr>
      </p:pic>
      <p:graphicFrame>
        <p:nvGraphicFramePr>
          <p:cNvPr id="291"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755640"/>
          </a:xfrm>
          <a:prstGeom prst="rect">
            <a:avLst/>
          </a:prstGeom>
          <a:ln w="0">
            <a:noFill/>
          </a:ln>
        </p:spPr>
      </p:pic>
      <p:sp>
        <p:nvSpPr>
          <p:cNvPr id="301"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Inquiry</a:t>
            </a:r>
            <a:endParaRPr b="0" lang="en-US" sz="2400" spc="-1" strike="noStrike">
              <a:solidFill>
                <a:srgbClr val="000000"/>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Measurement-The metric system is use by all Scientists</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cientific Method- There is a format of which scientist write a formal lab report</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 </a:t>
            </a:r>
            <a:r>
              <a:rPr b="0" lang="en-US" sz="2500" spc="-1" strike="noStrike">
                <a:solidFill>
                  <a:srgbClr val="6c6c6c"/>
                </a:solidFill>
                <a:latin typeface="Trebuchet MS"/>
              </a:rPr>
              <a:t>Lab Safety- Special rules apply when in the science laboratory.  These must be followed to assure the safety of all!</a:t>
            </a:r>
            <a:endParaRPr b="0" lang="en-US" sz="25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08"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212760" y="317520"/>
            <a:ext cx="7493040" cy="834840"/>
          </a:xfrm>
          <a:prstGeom prst="rect">
            <a:avLst/>
          </a:prstGeom>
          <a:ln w="0">
            <a:noFill/>
          </a:ln>
        </p:spPr>
      </p:pic>
      <p:sp>
        <p:nvSpPr>
          <p:cNvPr id="31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212760" y="317520"/>
            <a:ext cx="7493040" cy="1150920"/>
          </a:xfrm>
          <a:prstGeom prst="rect">
            <a:avLst/>
          </a:prstGeom>
          <a:ln w="0">
            <a:noFill/>
          </a:ln>
        </p:spPr>
      </p:pic>
      <p:sp>
        <p:nvSpPr>
          <p:cNvPr id="31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s. Kerner is the 7th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er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115092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103320"/>
            <a:ext cx="7493040" cy="725400"/>
          </a:xfrm>
          <a:prstGeom prst="rect">
            <a:avLst/>
          </a:prstGeom>
          <a:ln w="0">
            <a:noFill/>
          </a:ln>
        </p:spPr>
      </p:pic>
      <p:sp>
        <p:nvSpPr>
          <p:cNvPr id="269" name=""/>
          <p:cNvSpPr txBox="1"/>
          <p:nvPr/>
        </p:nvSpPr>
        <p:spPr>
          <a:xfrm>
            <a:off x="457200" y="837720"/>
            <a:ext cx="7616880" cy="58676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arth Science</a:t>
            </a:r>
            <a:endParaRPr b="0" lang="en-US" sz="22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ather and Atmosphere</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Compare the composition, properties and structure of Earth’s atmosphere to include: mixtures of gases and differences in temperature and pressure within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how the cycling of water in and out of the atmosphere and atmospheric conditions relate to the weather patterns on earth.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relationship between the movement of air masses, high and low pressure systems, and frontal boundaries to storms (including thunderstorms, hurricanes, and tornadoes) and other weather conditions that may result.</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edict weather conditions and patterns based on information obtained from: weather data collected from direct observations and measurement (wind speed and direction, air temperature, humidity and air pressure); weather maps, satellites and radar; cloud shapes and types and associated elevation. </a:t>
            </a:r>
            <a:br>
              <a:rPr sz="2000"/>
            </a:br>
            <a:r>
              <a:rPr b="1" lang="en-US" sz="2000" spc="-1" strike="noStrike">
                <a:solidFill>
                  <a:srgbClr val="6c6c6c"/>
                </a:solidFill>
                <a:latin typeface="Trebuchet MS"/>
              </a:rPr>
              <a:t> </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133200" y="182520"/>
            <a:ext cx="7493040" cy="725400"/>
          </a:xfrm>
          <a:prstGeom prst="rect">
            <a:avLst/>
          </a:prstGeom>
          <a:ln w="0">
            <a:noFill/>
          </a:ln>
        </p:spPr>
      </p:pic>
      <p:sp>
        <p:nvSpPr>
          <p:cNvPr id="271" name=""/>
          <p:cNvSpPr txBox="1"/>
          <p:nvPr/>
        </p:nvSpPr>
        <p:spPr>
          <a:xfrm>
            <a:off x="457200" y="990360"/>
            <a:ext cx="7238880" cy="4846680"/>
          </a:xfrm>
          <a:prstGeom prst="rect">
            <a:avLst/>
          </a:prstGeom>
          <a:noFill/>
          <a:ln w="0">
            <a:noFill/>
          </a:ln>
        </p:spPr>
        <p:txBody>
          <a:bodyPr anchor="t">
            <a:normAutofit fontScale="82000"/>
          </a:bodyPr>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fe Science</a:t>
            </a:r>
            <a:endParaRPr b="0" lang="en-US" sz="2600" spc="-1" strike="noStrike">
              <a:solidFill>
                <a:srgbClr val="000000"/>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ells, Cell Structure, Cell Functions,  Human Body System and Function</a:t>
            </a:r>
            <a:endParaRPr b="0" lang="en-US" sz="23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life functions of single-celled organisms that carry out all of the basic functions of life including: Euglena, Amoeba, Paramecium, Volvox</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functions of plant and animal cells, including major organelles (cell membrane, cell wall, nucleus, chloroplasts, mitochondria, and vacuoles).</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Summarize the hierarchical organization of multi-cellular organisms from cells to tissues to organs to systems to organisms.</a:t>
            </a:r>
            <a:endParaRPr b="0" lang="en-US" sz="2400" spc="-1" strike="noStrike">
              <a:solidFill>
                <a:srgbClr val="6c6c6c"/>
              </a:solidFill>
              <a:latin typeface="Trebuchet MS"/>
            </a:endParaRPr>
          </a:p>
          <a:p>
            <a:pPr marL="22356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endParaRPr b="0" lang="en-US" sz="2600" spc="-1" strike="noStrike">
              <a:solidFill>
                <a:srgbClr val="000000"/>
              </a:solidFill>
              <a:latin typeface="Trebuchet MS"/>
            </a:endParaRPr>
          </a:p>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6840" y="1609560"/>
            <a:ext cx="7620120" cy="5019840"/>
          </a:xfrm>
          <a:prstGeom prst="rect">
            <a:avLst/>
          </a:prstGeom>
          <a:noFill/>
          <a:ln w="0">
            <a:noFill/>
          </a:ln>
        </p:spPr>
        <p:txBody>
          <a:bodyPr anchor="t">
            <a:normAutofit/>
          </a:bodyPr>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fe Science</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ummarize the general functions of the major systems of the human body (digestion, respiratory, reproduction, circulation, and excretion) and ways that these systems interact with each other to sustain life.</a:t>
            </a:r>
            <a:endParaRPr b="0" lang="en-US" sz="2000" spc="-1" strike="noStrike">
              <a:solidFill>
                <a:srgbClr val="6c6c6c"/>
              </a:solidFill>
              <a:latin typeface="Trebuchet MS"/>
            </a:endParaRPr>
          </a:p>
          <a:p>
            <a:pPr lvl="1" marL="56664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netics, Reproduction, Disorders</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why offspring that result from sexual reproduction (fertilization and meiosis) have greater variation than offspring that result from asexual reproduction (budding and mito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fer patterns of heredity using information from Punnett squares and pedigree analy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impact of the environment and lifestyle choices on biological inheritance (to include common genetic diseases) and survival.</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hysical Science</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peed and Motion</a:t>
            </a:r>
            <a:endParaRPr b="0" lang="en-US" sz="25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the motion of an object by can be described by its position, direction of motion, and speed with respect to some other object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the effects of balanced and unbalanced forces acting on an object (including friction, gravity and magnets).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llustrate the motion of an object using a graph to show a change in position over a period of time</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pret distance versus time graphs for constant speed and variable motion.</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520560" indent="-228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274680"/>
            <a:ext cx="7493040" cy="725400"/>
          </a:xfrm>
          <a:prstGeom prst="rect">
            <a:avLst/>
          </a:prstGeom>
          <a:ln w="0">
            <a:noFill/>
          </a:ln>
        </p:spPr>
      </p:pic>
      <p:sp>
        <p:nvSpPr>
          <p:cNvPr id="277" name=""/>
          <p:cNvSpPr txBox="1"/>
          <p:nvPr/>
        </p:nvSpPr>
        <p:spPr>
          <a:xfrm>
            <a:off x="457200" y="1066680"/>
            <a:ext cx="7238880" cy="54864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Kinetic and Potential Energ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kinetic and potential energy contribute to the mechanical energy of an objec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energy can be transformed from one form to another (specifically potential energy and kinetic energy) using a model or diagram of a moving object (roller coaster, pendulum, or cars on ramps as examples).</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cognize that energy can be transferred from one system to another when two objects push or pull on each other over a distance (work) and electrical circuits require a complete loop through which an electrical current can pass.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Explain how simple machines such as inclined planes, pulleys, levers and wheel and axels are used to create mechanical advantage and increase efficiency.</a:t>
            </a:r>
            <a:endParaRPr b="0" lang="en-US" sz="25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Rectangle 2"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jcameron</cp:lastModifiedBy>
  <dcterms:modified xsi:type="dcterms:W3CDTF">2012-08-27T18:18:56Z</dcterms:modified>
  <cp:revision>98</cp:revision>
  <dc:subject/>
  <dc:title>Biology  Mr. Loveday</dc:title>
</cp:coreProperties>
</file>